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6211213" cy="3708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6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52926A-047E-4DAB-9370-ED49F5F33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B70344-4700-4756-8898-905F3E5D159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310400" y="1991160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339812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2862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2620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104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92862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72620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310400" y="8677440"/>
            <a:ext cx="23589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23589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310400" y="1479600"/>
            <a:ext cx="23589720" cy="287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39812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46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30:57Z</dcterms:modified>
  <cp:revision>13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